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D04-9148-4825-B751-EEAA57ED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27E-6837-43E7-B630-4E927A64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20C-C516-4D0F-B722-872B2B15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B6A-E057-4C01-A9B6-3D1931C7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43D-7A34-4561-A674-16354F22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C3F-509F-4A24-B3B0-095CBC2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832-807F-42BA-841F-2D64D094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6BD-8C61-4D0A-8491-33DC3445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8EA-4407-41D5-8AE8-9E849474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EEF-8A79-4039-91A6-094A4C4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B87-7074-441D-890A-D6B2A576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246-DC56-495F-BA20-730C9B49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1DFA-4760-4F0B-AE9A-8D40042EA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ABOUT U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Sandra Coalter Leiggi.bmp"/>
          <p:cNvPicPr/>
          <p:nvPr/>
        </p:nvPicPr>
        <p:blipFill>
          <a:blip r:embed="rId1"/>
          <a:stretch/>
        </p:blipFill>
        <p:spPr>
          <a:xfrm>
            <a:off x="2895480" y="2784600"/>
            <a:ext cx="34290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752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8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WE ARE 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251825886ymHJzc_th.jpg"/>
          <p:cNvPicPr/>
          <p:nvPr/>
        </p:nvPicPr>
        <p:blipFill>
          <a:blip r:embed="rId1"/>
          <a:stretch/>
        </p:blipFill>
        <p:spPr>
          <a:xfrm>
            <a:off x="1219320" y="3809880"/>
            <a:ext cx="3485880" cy="2579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51825917asoeMx_th.jpg"/>
          <p:cNvPicPr/>
          <p:nvPr/>
        </p:nvPicPr>
        <p:blipFill>
          <a:blip r:embed="rId2"/>
          <a:stretch/>
        </p:blipFill>
        <p:spPr>
          <a:xfrm>
            <a:off x="4724280" y="465120"/>
            <a:ext cx="3429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124080" y="0"/>
          <a:ext cx="3048120" cy="6675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IGHT (poun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752480" y="2133720"/>
            <a:ext cx="10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6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5.1 l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124080" y="0"/>
          <a:ext cx="3048120" cy="67611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IGHT (poun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752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39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.7 l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124080" y="0"/>
          <a:ext cx="3048120" cy="6675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IGHT (inch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752480" y="2133720"/>
            <a:ext cx="10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9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.4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124080" y="0"/>
          <a:ext cx="3048120" cy="67611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IGHT (inch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(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9051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7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HAVE ARRIV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nursery3.jpg"/>
          <p:cNvPicPr/>
          <p:nvPr/>
        </p:nvPicPr>
        <p:blipFill>
          <a:blip r:embed="rId1"/>
          <a:stretch/>
        </p:blipFill>
        <p:spPr>
          <a:xfrm>
            <a:off x="2057400" y="3352680"/>
            <a:ext cx="4714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A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648720" y="1676520"/>
            <a:ext cx="812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I was born, I was about ½ standard deviation over the classes mean for weigh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I was almost 1 standard deviation below the classes mean for leng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that I am 12 years old, I am a little below the classes mean for weight, but I am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over the classes mean for heig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47920" y="380880"/>
          <a:ext cx="6095880" cy="63039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Y ARRIVAL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4 oz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1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lbs. 4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10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lbs. 11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 3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7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3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 6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10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4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14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5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7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752480" y="2133720"/>
            <a:ext cx="10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6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4.6 ou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371600" y="0"/>
          <a:ext cx="4572000" cy="66754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NCES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752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77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.1ou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124080" y="0"/>
          <a:ext cx="3048120" cy="6675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NGTH (inch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752480" y="2133720"/>
            <a:ext cx="10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3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.375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371600" y="0"/>
          <a:ext cx="4572000" cy="66754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NGTH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2:13:24Z</dcterms:created>
  <dc:creator>ECPS-User</dc:creator>
  <dc:description/>
  <dc:language>en-US</dc:language>
  <cp:lastModifiedBy>Sharon Chancey</cp:lastModifiedBy>
  <dcterms:modified xsi:type="dcterms:W3CDTF">2010-10-19T00:42:26Z</dcterms:modified>
  <cp:revision>17</cp:revision>
  <dc:subject/>
  <dc:title>ALL ABOUT US!</dc:title>
</cp:coreProperties>
</file>